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B098-8875-4B4A-9919-96E304AFD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63CC-78F4-49D5-BBF8-CB8896B66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671-E8E0-4D52-82A0-4A0D9224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E82-6A99-4D05-B4D4-A1A207EB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A24-0E1D-4E43-9A84-16EE21F1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29B-223A-4FD1-9853-F5BC08C8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13D-960D-4371-B795-6761BB67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9FA-ED05-422E-BC4E-72286ED6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E92-1F78-44EE-B7A3-36ACE5CB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7FC-D88A-4EBF-9687-5E1F07A9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4F2-B1C7-4007-8640-CC0B2FF7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C85-31D5-42B6-A600-EEDCA39F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F1D-B1D4-4BCD-998F-6324C648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7A5-3EEE-48CF-8C3A-B576F98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1D82-48E8-492C-AF50-15F5DBBAF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Rami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Ramire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i nombre es Gabriela. Yo vivo en Nueva York. Tengo catorce años. Yo tengo seis hermanos. Yo soy calmada y am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. Como est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quieres comprar comida conmig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8:10Z</dcterms:modified>
  <cp:revision>103</cp:revision>
  <dc:subject/>
  <dc:title>Profile</dc:title>
</cp:coreProperties>
</file>